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B45-3EEC-4269-94C0-61631F13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6929-1842-4699-BC04-9CE64806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6CC6-B8F2-424A-BE1E-848F9DF5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D9D-7EBE-47C9-BC62-923367BCE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1BB4-310E-4CF5-A831-460380E04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4354-CCCC-42B8-A0D8-F5B401C9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5D8D-1F5C-4398-9B18-6216BFE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C3C-EBE3-4EE1-A7A9-8D9A95E3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4C22-F1C0-499B-B497-E8DC234D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8B4-2C2A-4587-B31E-E1C0CA9C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3D2-A026-4642-A518-CC88D420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A6AC-205E-452B-A2AB-3EBC85EC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8F36-5C25-45A6-9023-3C93D104D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obofoundry.org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ntology of cell types built by biologists for the needs of data annotation and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in branch organizes and enumerates in vivo cell ty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covers cell types from all of biolo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ll Ontology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specific cell lines, immortal or otherwise, although the Cell Ontology may be used to describe such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st of in vitro methods for preparing cell cultures, although the Cell Ontology may be used to describe the resulting cells if they correspond to an in vivo cell ty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801960" y="3621240"/>
            <a:ext cx="4419720" cy="53316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3962520"/>
            <a:ext cx="73152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5029200"/>
            <a:ext cx="838188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31784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coming Changes to th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Ont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 of multiple is_a inheritance through instantiation of relationships to terms in outside ontologies, such as the GO cellular component, GO biological process, and the PATO phenotype ont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a work in progress, and we can add terms to the existing ontology a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ly developed in 2003 by Jonathan Bard, David States, Michael Ashburner, and Seung Rh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described in 2005, Genome Biology, 6:R2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version is available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bofoundry.or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file cell.o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er Hoffman of SANBI is nominally “official” curator, although the position of editor for the ontology has been unfilled for 9 mon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ll Ontology Working Group is currently considering ways to improve the ontology from an ontological persp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848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matopoietic cell types were extensively revised in 2006 as part of the GO immunology revision to allow for consistency between the two ontolo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 new cell types introduced (well over 100 cell types in tot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_a parentage provided for all hematopoietically deriv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s_from parentage provided for all major hematopoietic line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 and T cell lineages were completely revised and greatly expa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menclature now reflects literature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49160" y="1514520"/>
            <a:ext cx="7632720" cy="52671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atopoietic Cells in 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68320" y="213372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ndritic Cel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2514600"/>
            <a:ext cx="1295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2514600"/>
            <a:ext cx="106668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 of 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2309760"/>
            <a:ext cx="175248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666880"/>
            <a:ext cx="12189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46120" y="425520"/>
            <a:ext cx="8051760" cy="60069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y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CL:00000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: 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: "A type of lymphocyte whose defining characteristic is the expression of a T cell receptor complex." [GOC:add, ISBN:078173514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 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cell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xact_synonym: "T-lymphocyte"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s_a: CL:0000542 ! lymphocy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lationship: develops_from CL:0000827 ! pro-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2927520"/>
            <a:ext cx="8686800" cy="1295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1:27:43Z</dcterms:created>
  <dc:creator>Alexander Diehl</dc:creator>
  <dc:description/>
  <dc:language>en-US</dc:language>
  <cp:lastModifiedBy>Alexander Diehl</cp:lastModifiedBy>
  <dcterms:modified xsi:type="dcterms:W3CDTF">2008-05-13T01:30:54Z</dcterms:modified>
  <cp:revision>18</cp:revision>
  <dc:subject/>
  <dc:title>The Cell Ontology</dc:title>
</cp:coreProperties>
</file>